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explode.wav" ContentType="audio/x-wav"/>
  <Override PartName="/ppt/media/image6.png" ContentType="image/png"/>
  <Override PartName="/ppt/media/drumroll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D1DA-37E0-42B0-8CEF-4687E2DD2D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EDBC-BDC8-4844-A93F-398A1945EA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D5E0-09DF-4EC0-AB57-B1DA87961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5BF3-CC50-44BD-826D-0DC16371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6701-061B-4024-8E4E-C6DA3BB90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16DC-F2D6-4C43-B044-A12ADE7EF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2631-990D-40E7-A4A3-9FFABEA31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D144-7257-4E68-8D55-0AF15C43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9262-B2A9-4156-90CF-DE1256D1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DBBE-818D-47AE-AF33-7AF5FCC3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4DEA-9D32-4D18-852A-8E371423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B7F0-60B8-4674-BA7D-FDCE8C56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BEC8-B3CB-4132-A6AF-08440365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C51B-CA57-4A88-BA5E-21B920A3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D1B8-D647-426F-A090-66935A1A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6658-DD5D-4A88-B82C-49C8F85D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A47B-8883-4F5F-A3B6-0A00A75F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D3BE-8893-44B8-89AF-79BE7405D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4BF3-64A9-4045-8C11-80BF6D853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4999-528B-48E9-80EE-FA3D77B7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D026-0C3E-47C5-A487-514B62DE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9D4D-002C-4040-A09A-F00DEDE8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58C9-BE1B-4D2A-B226-03D324EA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65E1-64DE-4923-BDB1-FB63CCC4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F6E5-6460-4B0E-9749-42512E54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5744-2E8C-4C63-AD50-AA3CFAB0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3747-5C02-491A-87CD-37400C8984F0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F09C-F17B-400B-B90A-42392465D7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642A-9264-4E0F-91DC-95D7CC537A5F}" type="datetime"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65DA-8C1B-46C1-A8C3-46E74CA79A0A}" type="slidenum"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4"/>
          <p:cNvSpPr/>
          <p:nvPr/>
        </p:nvSpPr>
        <p:spPr>
          <a:xfrm>
            <a:off x="990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2703-3B5E-4882-AD9E-A25DD03952F1}" type="datetime">
              <a:rPr b="0" lang="en-GB" sz="1400" spc="-1" strike="noStrike">
                <a:solidFill>
                  <a:srgbClr val="1c1c1c"/>
                </a:solidFill>
                <a:latin typeface="Tahoma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DB9F-F682-4ADF-9720-AE83B8E7AA4F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Hitler's Economic Poli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191120" y="297144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How Hitler Transformed the German Econom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152280" y="5486400"/>
            <a:ext cx="2743200" cy="15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ahoma"/>
              </a:rPr>
              <a:t>By Mr Walk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ahoma"/>
              </a:rPr>
              <a:t>http://gcsehistory.cjb.net</a:t>
            </a:r>
            <a:br>
              <a:rPr sz="1800"/>
            </a:br>
            <a:r>
              <a:rPr b="0" lang="en-GB" sz="1400" spc="-1" strike="noStrike">
                <a:solidFill>
                  <a:srgbClr val="ff0000"/>
                </a:solidFill>
                <a:latin typeface="Tahoma"/>
              </a:rPr>
              <a:t>www.SchoolHistory.co.u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10" descr="C:\My Documents\My Pictures\hitler.gif"/>
          <p:cNvPicPr/>
          <p:nvPr/>
        </p:nvPicPr>
        <p:blipFill>
          <a:blip r:embed="rId1"/>
          <a:stretch/>
        </p:blipFill>
        <p:spPr>
          <a:xfrm>
            <a:off x="4343400" y="4114800"/>
            <a:ext cx="3657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DB30-6117-4DCA-B812-B9DD0993B06B}" type="datetime">
              <a:rPr b="0" lang="en-GB" sz="1400" spc="-1" strike="noStrike">
                <a:solidFill>
                  <a:srgbClr val="000000"/>
                </a:solidFill>
                <a:latin typeface="Tahoma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D42B-E91E-4EF6-B1C5-64DE0C221193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ere people better off under the Nazi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nemployment fell everywhere not just in Germ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me people were forced to work on public wor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re were disadvantages to SDA and KDF – workers had no repres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orkers put more into the economy than they got 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f you were “Aryan” and of no strong political beliefs life was relatively go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4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BC93-2126-46C2-968D-0CA924789B1C}" type="datetime">
              <a:rPr b="0" lang="en-GB" sz="1400" spc="-1" strike="noStrike">
                <a:solidFill>
                  <a:srgbClr val="000000"/>
                </a:solidFill>
                <a:latin typeface="Tahoma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Footer Placeholder 5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6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B0F7-8737-423F-A8EC-8481AD0837F1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as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. Research a short case study factfile on Hjalmar Schacht and Herman Go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. Following further research answer the question, Was Nazi economic policy a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6" descr="C:\My Documents\My Pictures\swastika.gif"/>
          <p:cNvPicPr/>
          <p:nvPr/>
        </p:nvPicPr>
        <p:blipFill>
          <a:blip r:embed="rId1"/>
          <a:stretch/>
        </p:blipFill>
        <p:spPr>
          <a:xfrm>
            <a:off x="1600200" y="2362320"/>
            <a:ext cx="338940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48FE-2262-43EC-8548-C0E350993430}" type="datetime">
              <a:rPr b="0" lang="en-GB" sz="1400" spc="-1" strike="noStrike">
                <a:solidFill>
                  <a:srgbClr val="000000"/>
                </a:solidFill>
                <a:latin typeface="Tahoma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810B-C4D9-4DCB-9DB3-5F1D0978B5C1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t the end of this lesson you should be able 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nderstand Hitler’s priorities on coming to pow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valuate the Schacht period of economic management 1933-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nderstand the importance of Goering and the 4 year Plan 1936-4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valuate the success or otherwise of Nazi economic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B70E-20DF-4B08-A0FA-FA6055E37A6F}" type="datetime">
              <a:rPr b="0" lang="en-GB" sz="1400" spc="-1" strike="noStrike">
                <a:solidFill>
                  <a:srgbClr val="000000"/>
                </a:solidFill>
                <a:latin typeface="Tahoma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1972-B2E2-49AA-8689-4B3C22B7CC94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Unemploy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uring the election campaigns Hitler had promised to solve unemployment. This was only one of his ai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4" descr="C:\My Documents\My Pictures\brotarbeit.jpg"/>
          <p:cNvPicPr/>
          <p:nvPr/>
        </p:nvPicPr>
        <p:blipFill>
          <a:blip r:embed="rId1"/>
          <a:stretch/>
        </p:blipFill>
        <p:spPr>
          <a:xfrm>
            <a:off x="3505320" y="3124080"/>
            <a:ext cx="3189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e Placeholder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F4BB-04A3-4708-A964-5D588C09E935}" type="datetime">
              <a:rPr b="0" lang="en-GB" sz="1400" spc="-1" strike="noStrike">
                <a:solidFill>
                  <a:srgbClr val="000000"/>
                </a:solidFill>
                <a:latin typeface="Tahoma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80F3-801C-4420-87E9-47CC6B9FA47B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1345680"/>
            <a:ext cx="7792920" cy="4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Hitler’s economic prioriti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1. Drag Germany out of the world rec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2. Solve unemployment (which he had promised to d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3. Make Germany an “autarchy” – self su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4. Get rid of Jewish industrialists and give their businesses to “Aryan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4 Transform the economy to focus on rearmament and w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29C4-5BE0-445D-87E1-2721C8735BDA}" type="datetime">
              <a:rPr b="0" lang="en-GB" sz="1400" spc="-1" strike="noStrike">
                <a:solidFill>
                  <a:srgbClr val="000000"/>
                </a:solidFill>
                <a:latin typeface="Tahoma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8E23-EC54-4617-8275-028F62611106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Hjalmar Schac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chacht was President of the Reichsbank who directed German economic poli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He believed in steady growth and a stable curr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He promoted trade agreements with developing countries trading manufactured goods for cheap raw materia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He was against spending out too much on rearmament before the German economy was strong enoug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His New Plan of 1934 aimed to reduce imports into Germany and to strengthen the curr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He fell out with Hitler over the speed of rearmament and was replaced by Hermann Goering in 193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C7EB-9344-4508-B7E0-AF4139696730}" type="datetime">
              <a:rPr b="0" lang="en-GB" sz="1400" spc="-1" strike="noStrike">
                <a:solidFill>
                  <a:srgbClr val="000000"/>
                </a:solidFill>
                <a:latin typeface="Tahoma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B07B-FE9B-4C11-9164-A420B954D8A8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Hitler’s Id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German economy can be converted into a war mach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Germany must rearm quickly, conquer countries by Blitzkrieg or lightening war, takeover their economies and move 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quered countries would give the master race “Lebensraum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y exploiting conquered countries living standards could be maintained at home despite all the money being spent on w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 1936 Goering was appointed to introduce a 4 year plan to put Hitler’s ideas into a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4" descr="C:\My Documents\My Pictures\Naziflag.gif"/>
          <p:cNvPicPr/>
          <p:nvPr/>
        </p:nvPicPr>
        <p:blipFill>
          <a:blip r:embed="rId1"/>
          <a:stretch/>
        </p:blipFill>
        <p:spPr>
          <a:xfrm>
            <a:off x="3733920" y="5029200"/>
            <a:ext cx="19810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710E-090E-46B7-9E6C-2A3AD12A1F40}" type="datetime">
              <a:rPr b="0" lang="en-GB" sz="1400" spc="-1" strike="noStrike">
                <a:solidFill>
                  <a:srgbClr val="000000"/>
                </a:solidFill>
                <a:latin typeface="Tahoma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BD98-C149-4409-B96A-1B6F35975A20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1395360"/>
            <a:ext cx="7792920" cy="36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he aims of the 4 year Pla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peed up rearmament and make Germany ready for w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ake Germany self sufficient in raw materials “autarchy” by developing home grown substitu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4251240" y="4384800"/>
            <a:ext cx="26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4708440" y="4613400"/>
            <a:ext cx="268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siana"/>
              </a:rPr>
              <a:t>In 1933 total money spent on the military was 1.9 million marks by 1939 it was 32.3 million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3" descr="C:\My Documents\My Pictures\The german hero.gif"/>
          <p:cNvPicPr/>
          <p:nvPr/>
        </p:nvPicPr>
        <p:blipFill>
          <a:blip r:embed="rId1"/>
          <a:stretch/>
        </p:blipFill>
        <p:spPr>
          <a:xfrm>
            <a:off x="1905120" y="4343400"/>
            <a:ext cx="141912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8ECF-2D36-41AC-9C5D-B90BD3E78906}" type="datetime">
              <a:rPr b="0" lang="en-GB" sz="1400" spc="-1" strike="noStrike">
                <a:solidFill>
                  <a:srgbClr val="000000"/>
                </a:solidFill>
                <a:latin typeface="Tahoma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70C3-DF30-4408-9974-DE3FADBFDAC5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19160" y="928800"/>
            <a:ext cx="60958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What were the results of this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size of the German army grew massiv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itler became more confident and started to openly break the Treaty of Versail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489480" y="400356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3352680" y="43434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ustria 193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572000" y="425916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Czechoslovakia 1938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6315840" y="4381560"/>
            <a:ext cx="98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Poland 193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3565440" y="529920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ld war broke ou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10" descr="C:\My Documents\My Pictures\czech38.bmp"/>
          <p:cNvPicPr/>
          <p:nvPr/>
        </p:nvPicPr>
        <p:blipFill>
          <a:blip r:embed="rId1"/>
          <a:stretch/>
        </p:blipFill>
        <p:spPr>
          <a:xfrm>
            <a:off x="1219320" y="4419720"/>
            <a:ext cx="1981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CD4B-69D0-4E6B-95A2-E0F3D3FEBC1A}" type="datetime">
              <a:rPr b="0" lang="en-GB" sz="1400" spc="-1" strike="noStrike">
                <a:solidFill>
                  <a:srgbClr val="000000"/>
                </a:solidFill>
                <a:latin typeface="Tahoma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7F97-CC31-4E63-B798-1A25438D4241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as the 4 year Plan a succes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nemployment dropped quickly 4.8 million in 1933 to 0.5 million in 193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ages rose slightly but were still lower in 1938 than they had been in 192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orking hours went up to 49 hours per week in 1939 – 52 hours in 1943 to over 60 hours per week by 194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re were fewer consumer goods (personal and household go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rade unions were replaced by “Beauty of Labour” and strength Through Joy” who organised better conditions and leisure activ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.</cp:lastModifiedBy>
  <dcterms:modified xsi:type="dcterms:W3CDTF">2010-03-12T08:16:45Z</dcterms:modified>
  <cp:revision>10</cp:revision>
  <dc:subject/>
  <dc:title>PowerPoint Presentation</dc:title>
</cp:coreProperties>
</file>